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E972-0686-46FD-9162-2531732C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E8AF-8471-43B0-9C15-2167B0A9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80A1-5B84-4310-BDA1-4AB68ACB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82DF-9299-4284-8AF4-DCDCD6EF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DBD3-FA3A-4232-BF13-5BF70D6A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B08-19F0-4491-AFB7-2148ED6E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37D5-9B8C-4BAB-8E4C-32E2134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1B6-242F-4D8B-BD2E-4CA9031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6C6A-06C5-44E7-8E52-EAFD1126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8A26-50AD-42BC-B312-EE65C181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F682-3110-4650-A7FA-9A22B71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832E-2B34-4678-9BC6-755290E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34D7-6E9C-45D1-95D1-4B1FB96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CFDD-C44B-428B-8FF9-8DCAFA0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017-41BF-4893-B991-6A5D474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192-B945-42B5-B187-C6F93117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C2B8-D690-4137-BF32-1BEE6C0F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A7A5-5F13-45AB-B86B-7F532D4B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ABE3-DCD9-4429-941B-FFA5936B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824D-C284-45C4-804E-B13086F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13A5-B756-4C29-A883-3A9A30F3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60F0-B7EE-4B6A-99A9-7A6061A0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E6FA-1939-4D61-9304-9063AAC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1EDA-2C54-4637-96C0-92DC71B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A982-B744-48D0-803F-13C0715C6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B77F-D1E9-4054-91E1-51502DBAD0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6/6c/Apheresis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1/Blood_Compatibility.sv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81532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RANSFUZIOLOGIJ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KRV – 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ULOGA  U  ORGANIZ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REGULACIJA TELESNE  TEMPERATUR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PREKO  CENTRA  ZA  TERMOREGULACIJU  U  HIPOTALAMUS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REGULACIJA  ACIDO-BAZNOG  STATUSA  -  pH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 NORMALNA  VREDNOST  7.35 – 7.45,  BLAGO  ALKAL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ODRŽAVA  HOMEOSTAZU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–  UNUTRAŠNJU  STALNOST  ORGANIZ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IZIK  RAZVOJA  I  TEŽINE  HEMOLIZ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IŠI  UKOLIKO  JE  TRANSFUNDOV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EĆI  VOLUMEN  ABO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KOMPATIBILN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VIŠE  OD  200 ml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TEŠK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LIZA  I  FATALNI  ISH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AJČEŠĆI  UZROK  TRANSFUZ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INKOMPATIBILNE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NIJE  STRUČ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GREŠKA  NEG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ADMINISTRATIVNA  GREŠKA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BOG  NEDOVOLJNE  PAŽNJE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EDICINSKOG  I  NEMEDICINSK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SOBLJA  U  OBELEŽAVANJU  JEDINICA  KRVI  ILI  IDENTIFIKACIJI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DMAH  PREKINUTI  TRANSFUZI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STAVITI  KANILU  U  VENI  I  ZAPOČE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FUZIJU  FIZIOLOŠKIM  RASTVOR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NTROLA  PODATAKA  O  IDENTITET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AOCA  I  JEDINIC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NDOVAN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BAVEŠTENJE  TRANSFUZIOLOŠK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TAN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ATITI - TEMPERATURU,  PULS,  KRVN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TISAK,  BROJ  RESPIR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ATITI  POJAVU  PROMENA  NA  KOŽI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VENTUALNU  POJAVU  NENORMALNOG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AVLJE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ETI  NOVE  UZORKE  KRV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Z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AOCA  ZA  TEST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PATIBILNOSTI  I  ISPITIVANJE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LIZE – DIREKTNI  ANTIGLOBUL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 COOMBSOV )  TEST ,  HEMOGLOBIN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ORAK  KRVI  DAVAOCA  IZ  PILO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PRUV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ORAK  KRVI  IZ  TRANSFUNDUJUĆ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E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ORAK  MOKRAĆE  I  PRAĆE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IURE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ENGENSKI  SNIMAK  GRUDNOG  KOŠ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OFILAKTIČKA  TERAP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.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VENCIJA  ŠOK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HIPOTENZIJE  I  AKUTNE  BUBREŽNE  INSUFICIJEN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FUZIJA  1000 ml  FIZIOLOŠK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RASTVORA  U  TOKU  1 – 2 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URETICI  I.V.  80 – 120 mg  FUROSEM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STAVAK  INFUZIJE  UZ  ODRŽAV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IUREZE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100 ml /h  - MANITOL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PROFILAKTIČKA  TERAP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DISEMINOVANA  INTRAVASKULAR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KOAGULA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HEPARIN  5000 i.j.  I.V. ,  NASTAVIT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KONTINURANOM  INFUZIJOM  1500 i.j./h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U  TOKU  6 – 24 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NADOKNADA  TROMBOCITA  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NEDOSTAJUĆIH  FAKTOR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KOAGULACIJE – PLAZMA,  KRIOPRECIPIT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OFILAKTIČKA  TERAP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3.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RESPIRATORNA  TERAP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2  KISEONIČKA  MAS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VAZIVNA  ILI  NEINVAZIV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EHANIČKA  VENTIL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TEŠKA  AKUTNA  BUBREŽ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INSUFICIJEN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DIJALI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A  LI  SE  KOD  PACIJENTA  SA  AHR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E  JE  TRANSFUZIJA  KRVI  I  DAL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OPHODNA,  MOŽE  ODMA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ENITI  TRANSFUZI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PATIBILN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KO  JE  UTVRĐEN  UZROK  AHR - MOŽ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E  TRANSFUNDOVATI  NOVA  KR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KOD  DAVANJA  KRVI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ZETA  KRV  SE  SKUPLJA  U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NTEJNER – ELASTIČNA  PLASTIČNA   KES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I  SKLADIŠ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OSEČNO  450 ml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NTIKOAGULANTNO  SREDSTVO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SPREČAVA  ZGRUŠAVANJE  KRVI  U  KESI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NATRIJUM  CITRAT,  FOSFAT,  DEKSTROZA  A  MOŽE  I  ADENIN  - CP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DLO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ŽENA  POSLETRANSFUZIJSKA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EKUNDARNI  ODGOVOR  RAN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ENZIBILISANOG  PRIMAOCA  NA  UNE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GEN   TRANSFUNDOVA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JAVLJA  SE  5 – 14  DANA  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DLO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ŽENA  POSLETRANSFUZIJSKA  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EMOLIZA  ERITROCITA  DEŠAVA  S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KSTRAVASKULARNO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RETIKULOHISTIOCITNOM  SISTE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NACI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VEĆANJE  BILIRUBINA  U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ENJE  ERITROCITA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GLOB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DLO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ŽENA  POSLETRANSFUZIJSKA  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LABARATORIJSKA  ISPITIVANJA  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LOANTITELA  U  KRVI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ALJI  POSTUPAK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TRANSFUZIJE  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IMA  BEZ  UZROČNO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G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MA  SISTEMSKIH  POREMEĆA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KUTNE  BUBREŽNE  INSUFICIJENCI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FEBRILNA  NEHEMOLIZN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JČEŠĆA  NEPOSRED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SLETRANSFUZIJSKA  REAKCIJ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U  1%  TRANSFUZI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OSLEDICA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IMUNI  ODGOVOR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AOČEVIH  ANTILEUKOCITAR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A  SA  ANTIGENIMA  LEUKOCI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FEBRILNA  NEHEMOLIZN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JČEŠĆE  SE  JAVLJA  K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ULTITRANSFUNDOVANIH  PACIJENA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  ŽENA  KOJE  SU  VIŠE  PUTA  RAĐALE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JI  SU  VEĆ  BILI  U  KONTAKTU  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GENIMA  NA  LEUKOCITIM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ETHODNIH  TRANSFUZ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FEBRILNA  NEHEMOLIZNA  REAKCIJ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EBRILNOST – 0.5 – 3 h  POSLE  NAJVIŠ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00 ml  TRANSFUZ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GLAVOBOL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RHTAVICA,  MALAKSAL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OLOVI  U  MIŠIĆIMA  GRUDI  I  LEĐ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UKA  POVRAĆ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TENZIJA – IZUZETNO  RET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FEBRILNA  NEHEMOLIZNA  REAKCIJ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IFERENCIJALNA  DIJAGNOZ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NOSU  NA  TRANSFUZIJ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NTAMINIRANU  BAKTERIJ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OSTUPAK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ODMAH  ZAUSTAVI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U  I  UTVRDITI  UZR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TERAPIJA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ANTIPIRETICI–NOVALGET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VEN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KRV  SIROMAŠNA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LEUKOCIT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ERG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JČEŠĆI  NEŽELJENI  EFEK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ČEŠĆE  POSLE  TRANSFUZIJE  CEL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I,  PLAZME  I  PROTEINSK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DUK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EAKCIJA  ANTITELA  PRIMAOCA  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GENIMA  PROTEINA  U  KRV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ERG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JAVLJAJU  SE  NAKON  TRANSFUZIJE  BA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LOVINE  JEDINICE  KRVI,  ODNOSN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GOVARAJUĆE  KOLIČINE  PLAZ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VRAB  UDRUŽEN  SA  OSIP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RTIKARIJA  PO  KOŽ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RAST  T  NE  VIŠE  OD  39.5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ESPIRATORNE  SMET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ERG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USTAVITI  TRANSFUZIJU  BEZ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ZVLAČENJA  KAN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NTIHISTAMINICI – PHENERG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CaCl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NTIPIRETICI – NOVALGET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RTIKOSTEROIDI – HIDROKORT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DRENAL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KOD  DAVANJA  KRVI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FEREZ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UZIMA  SE  KRV  IZ  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VAOC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,  IZDVAJA  POMOĆU  CENTRIFUGA  ILI  FILTERA  ODREĐENI  DEO, SKLADIŠTI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  OSTATAK  KRVI  SE  VRAĆA  DAVAOC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LAZMAFEREZA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ODVAJANJE  PLAZ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FEREZA  -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OMBOCITI,  ERITROCITI  I  LEUK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NAFILAKTIČK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UZETNO  RETKA,  VEOMA  TEŠKA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RAMATIČ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OJAVA -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EĆ  POSLE  TRANSFUZ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AMO  NEKOLIKO  MILILITARA  KRVI  IL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Z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UZROK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U  PRIMAOCA  KOJI  JE  ZB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DOSTATKA  IMUNOGLOBULINA   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IgA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STVORIO  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ANAFILAKTIČKA  REAK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SIMPTOMI  I  ZNACI – NAGLO  NASTAJU,     OPASNI  PO  ŽIVOT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UZNEMIRE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DRHTAVICA  ALI  NEMA  POVIŠENE  TELESN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OTOK  SLUZOKOŽA – GLASNICA  I  DRUGIH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DELOVA  TEL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KAŠALJ, TEŠKA  DISPNEJA,  GUŠ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OBILNO  POVRAĆANJ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GRČEVI  U  STOMAKU,  TEŠKI  PROLI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ANAFILAKTIČKA  REAKCIJ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SIMPTOMI  I  ZNACI – NAGLO  NASTAJU,     OPASNI  PO  ŽIVOT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- ŠO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- NAJPRE  HIPERTENZIJA  ZATIM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- DUBOKA  HIPOTENZIJ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- TAHIKARDIJ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ANAFILAKTIČKA  REAKCIJ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RZO  DELOV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USTAVITI  TRANSFUZIJU  BEZ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AĐENJA  KAN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DRENALIN  0.5 – 1 mg  I.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RONHOSPAZAM – AMINOFILIN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125 – 250 m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2  5 - 10 L /min  PREKO  MAS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I  NEKARDIOGENI  EDEM  PLUĆ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SLEDICA  REAKCIJE  IZMEĐ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ČEVIH  ANTILEUKOCITAR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A  I  PRIMAOČEVIH  LEUK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STAJE  POVEĆANA  PROPUSTLJIVOS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NDOTELA  PLUĆNIH  KAPILA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KUPLJA  SE  TEČNOST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TERSTICIJUMU  PLUĆA  I  ALVEOLAM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–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UĆNI  ED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I  NEKARDIOGENI  EDEM  PLUĆ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AŠAL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SPNEJA – OTEŽANO  DIS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OL  U  GRUDNOM  KOŠ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RHTAVICA,  VISOKA  TELESNA  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ERTENZIJ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KSIJA  SA  CIJANOZ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TG  PLUĆA – DIFUZNI  MRLJAS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FILTRA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I  NEKARDIOGENI  EDEM  PLUĆ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USTAVITI  TRANSFUZI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ESPIRATORNA  PODRŠK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ENTILATOR  ZA  DIS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URETICI – FUROSEMID - LASI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RTIKOSTEROIDI - HIDROKORT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BAKTERIJSKA  KONTAMINA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AZIVA  SEP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ČNU  REAKCI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UČESTALOST  KONTAMINAC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MANJU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RIŽLJIVO  UZIMANJE  KRVI  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LA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TVORENI  SISTEMI  PRIBORA  Z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ZIMANJ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RIŽLJIVO  ČUVANJE  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GOVARAJUĆIM  TEMPERATURAM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BAKTERIJSKA  KONTAMINA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AJČEŠĆE  BAKTERI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TAPHYLOCOCCUS  EPIDERMIDI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TAPHYLOCOCCUS  AURE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OPRINOSEĆI  FAKTOR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 USLOV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ČUVANJA  TROMBOCITA  NA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2 - 24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  I  DUŽINA  ČUVAN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A  DO  42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BAKTERIJSKA  KONTAMINA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  RAZLIČITE  TEŽ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EPTIČNI  ŠOK – NAJTEŽA  PO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VIŠENA  T  I  DRHTAVICA  U  TOK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E  ILI  DO  2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TENZ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UKA,  POVRAĆANJE, PROILI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LIGUR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ŠO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ONZERVA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NZERVANS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ANTIKOAGULANS)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  PLASTIČNOM  PRIBOR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PRODUŽENO  ČUVANJE  I  UPOTREBA  KRVI  SA  MANJE  METABOLIČKIH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MEN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NZERVANS – CPDA – 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Citrate, Phosphate, Dextrose, Aden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JEDINICA  KRVI    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510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ml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–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450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ml  KRVI  I     </a:t>
            </a:r>
            <a:r>
              <a:rPr b="1" lang="sr-Latn-CS" sz="3600" spc="-1" strike="noStrike">
                <a:solidFill>
                  <a:srgbClr val="66ff33"/>
                </a:solidFill>
                <a:latin typeface="Garamond"/>
              </a:rPr>
              <a:t>63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ml  KONZERVANS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694480" y="3303720"/>
            <a:ext cx="392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BAKTERIJSKA  KONTAMINA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REMEĆAJI  RESPIRATORNE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FUNKCIJE – KAŠALJ, DISPNE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SEMINOVANA  INTRAVASKULAR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AGULACIJE – DIK  USLED  AKTIVAC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AGUL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BAKTERIJSKA  KONTAMINACIJA  KR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POSTUP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PREKID  TRANSFUZ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UZORKE  KRVI  PRIMAOCA  I  IZ  OSTATK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TRANSFUNDOVANE  KRVI  POSLATI  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BAKTERIOLOŠKU  ANALIZ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OSTAVITI  KANIL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U  VE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INFUZIJA  KRISTALOIDNOG  RASTV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ANTIBIOTICI – KOMBINACIJA  2  ILI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POTPORA  VITALNIM  FUNKCIJAM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PTI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M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ŠOK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DEFINI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ANSFUZIJA  NE  MANJE  OD                       </a:t>
            </a:r>
            <a:r>
              <a:rPr b="1" lang="sr-Latn-CS" sz="4400" spc="-1" strike="noStrike">
                <a:solidFill>
                  <a:srgbClr val="66ff33"/>
                </a:solidFill>
                <a:latin typeface="Garamond"/>
              </a:rPr>
              <a:t>10</a:t>
            </a:r>
            <a:r>
              <a:rPr b="1" lang="sr-Latn-C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JEDINICA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od  520 ml x  10  = 5.2 L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RASLOM  PACIJENTU,                  ODNOSNO  VOLUMENA  KOJI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GOVAR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DNOM  VOLUMENU  CIRKUL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KRVI  PRIMAOCA  DATOM  U  TOKU  24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UZRO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U  KRV  PRIMAOCA  SE  UNOSE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VELIK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KOLIČINE  PRODUKATA  METABOLIČKIH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I  RAZGRADNIH  PROCES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KOJI  S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DEŠAVAJU  U  KONZERVISANOJ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USKLADIŠTENOJ  KRVI  DAVAO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SADRŽI  VEĆU  KOLIČINU  KONZERVANSA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CITRATA  I  MANJU  KOLIČINU  JONIZOVANOG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KALCIJU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UZRO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U  KRVI  RASTE  SADRŽAJ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SLOBODNOG  HEMOGLOBINA,  KALIJUMA,  AMONIJAKA  I  MLEČNE  KISE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SMANJUJE  -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AKTIVNOST  LABILNIH  FAKTORA  KOAGULACIJE – F V,  F  VIII,  F X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SNIŽAVA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KONCENTRACIJA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2.3  DIFOSFOGLICER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POVEĆAV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- KISELOST – ACIDITET ,  NIZAK  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MANIFESTUJE  SE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ETABOLIČKIM  PROMENAM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MENE  ELEKTROLITA  I  ACIDO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AZNE  RAVNOTEŽ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REMEĆAJEM  KOAGUL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TERMIJOM – DAVANJE  HLAD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MANIFESTUJE  SE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REMEĆAJEM  TRANSPORTA  O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JAVOM  MIKROAGREG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METABOLIČKI  POREMEĆAJI  NASTAJU ZBOG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TOKSIKACIJE  CITRAT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ERKALIJEM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KALCEM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OMENE   pH  KRVI - ACIDOZ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TOKSIKACIJA  CITRATOM  SA  HIPOKALCEMIJ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ANSFUZIJA  KRVI  VEĆOM  BRZINOM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  1000  ml  U  TOKU  10 m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MENA  CELOKUPNOG  CIRKULIŠUĆE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OLUMENA  ZA  MANJE  OD  2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INTOKSIKACIJA  CITRATOM  SA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HIPOKALCEMIJOM  -  SIMPTOMI  I  ZN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PARESTEZIJE,  MIŠIĆNI  TREM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GRČEVI  U  STOMA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POREMEĆAJ  RADA  SRCA - ARITM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HIPOTENZ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EKG  PROMENE – PRODUŽENI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ST - SEGMENT, DEPRESIJA  P  I  T  TALA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ONZERVACIJA    I 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ČUVANJE 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  TOKU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NEKOLIKO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ATI  ILI  DAN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ČUVAN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UJE  SE  KONCENTRACIJA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FAKTORA  KOAGULACIJE – F V   I  F V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UJE  S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BROJ  TROMBOCITA  I  NJIHOVA  FUN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LEUKOCITI  OSLOBAĐAJU  CITOKIN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KOJI  MOGU  DA  IZAZOVU  NEŽELJENE  EFEK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TOKSIKACIJA  CITRATOM  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HIPOKALCEMIJOM – PREVEN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10 ml  10%  CaCl2  NA  1000 – 1500 ml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TE  KRVI – 2 - 3  JEDINIC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2 ml  10%  KALCIJUM  GLUKONATA  NA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1  JEDINICU  KRV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HIPERKALIJEM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REKTNO  PROPORCIONALNA  DUŽIN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KLADIŠTEN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NEVNO  POVEĆANJE  0.5 – 1 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STAJE  RASPADANJEM  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AZIVA  POREMEĆAJ  RADA  SR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EKG PROMENE – VISOK  I  OŠTAR  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ALAS,  PROŠIREN  QRS  KOMPLEKS ,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-V  BL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HIPERKALIJEMIJA - PREVEN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ANSFUZIJA  KRVI  DO  7  DANA  STAR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D  ODRASLIH  I  DO  3  DANA  KOD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E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EPLAZMATISANA  KRV  ILI  ISPRANI  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ALCIJUM  JE  ANTIDOT  ZA  KALIJ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REMEĆAJ  TRANSPORTA  KISEON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VOLEM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ENA  KONCENTRACIJA  Hb  U  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VEĆAN  AFINITET  O2  ZA  Hb  ZB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ISKIH  KONCENTRACIJA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.3 DIFOSFOGLICERATA  KOJE  S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RAĆAJU  NA  NORMALU  POSLE  1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NA  OD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REMEĆAJI  KOAGULACIJE – POJAČANO  KRVAVLJE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ILUCIONI  EFEKT  KONZERVISA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SMANJENJE  KONCENTRAC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LABILNIH  FAKTORA  KOAGULACIJE –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F V ,  F VIII  I  TROMB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VEN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UZ  STARU  KRV  DAVATI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VEŽU  ILI  DATI  TROMBOC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HIPOTERM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BRZA  TRANSFUZ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50 – 100 ml/min  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OŽE  DOVESTI  DO  ARITMIJA  SRCA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ASTOJA  SR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VENCIJA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ZAGREVANJEM  KRVI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TANDARDNIM  SISTEMIMA  DO  37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EOPTEREĆENJE  KRVOT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ZBILJNA  KOMPLIKACIJA  KOD  SRČA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  PLUĆNIH  BOLESNIKA  I  DE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IMPTOMI  I  ZNACI  SE  JAVLJAJU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OKU  ILI  NEPOSREDNO  POSL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EOPTEREĆENJE  KRVOTOKA  -  SIMPTOMI  I  ZN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AŠALJ,  DISPNEJA,  ORTOPNE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EŠKA  GLAVOBOL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ERIFERNI  EDE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ERTENZIJA,  ZATIM  HIPOTENZ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NGESTIVNA  SLABOST  SR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EOPTEREĆENJE  KRVOTOKA – TERAP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EKID  TRANSF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EDEĆI  POLOŽ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2  5-10 l/min  PREKO  MAS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URETICI -  FORSIRANJE  DIURE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RANSFU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ZIONE  TRANSMISIONE  BOLE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NOGI  IZAZIVAČI  PRISUTNI  U  KRV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LACA  SE  MOGU  PRENE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ANJI  BROJ  JE  OPASAN  PO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GLAVNA  KARAKTERISTIKA  OBOLJENJ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UGOTRAJNO  NOSILAŠTVO I LATEN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FEKCIJA  PROLAZI  NEZAPAŽENO  IL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EZ  ZNAKOVA  TEŠKOG  OBOLJE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ONZERVACIJA    I  ČUVANJ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  TOKU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KOLIKO  SATI  ILI  DAN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ČUV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UJE  S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VIJABILNOST  ERITROCITA  I  OPADA  KONCENTRACIJA  2,3 DIFOSFOGLICERATA – 2,3 – DP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VEĆAVA  S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FINITET  HEMOGLOBINA  ZA  O2  I  SMANJUJE  OKSIGENACIJA  TKI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ODAJE  S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DENIN  KOJI  ODRŽAVA  2,3-DP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RANSFU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ZIONE  TRANSMISIONE  BOLESTI</a:t>
            </a:r>
            <a:r>
              <a:rPr b="1" lang="sr-Latn-CS" sz="3600" spc="-1" strike="noStrike">
                <a:solidFill>
                  <a:srgbClr val="66ff33"/>
                </a:solidFill>
                <a:latin typeface="Garamond"/>
              </a:rPr>
              <a:t> –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MERE  PREVENCIJ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- IZBOR  DAVALACA  KRVI  -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ANAMNEZA  I  KLINIČKI  PREGL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ESTIRANJE  SVAKE  JEDINICE  KRVI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VERAVA  SE  PRISUSTVO  MARKER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REĐENIH  BOLE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RANSFU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ZIONE  TRANSMISIONE  BOLESTI</a:t>
            </a:r>
            <a:r>
              <a:rPr b="1" lang="sr-Latn-CS" sz="3600" spc="-1" strike="noStrike">
                <a:solidFill>
                  <a:srgbClr val="66ff33"/>
                </a:solidFill>
                <a:latin typeface="Garamond"/>
              </a:rPr>
              <a:t> – 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MERE  PREVENCIJ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AKTIVACIJA  POTENCIJAL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ZROČNIKA  U  PRODUKTIM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ECIZNE  INDIKACIJE  I  RACIONAL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ZBOR  PRODUKAT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UTOLOGNA  TRANSFUZ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ASTOJI  SE  OD  KOLEKCIJE  BOLESNIKOVE  KRVI  PRE  OPERACIJE  I  TRANSFUZIJE  TE  KRVI  ILI  NJENIH  KOMPONENATA  ZA  VREME  ILI  NAKON  OPERACIJE  ISTOM  BOLES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AVALAC  I  PRIMALAC  KRVI  JE  ISTA  OSO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DNOSTI  AUTOLOGNE  TRANS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PREČAVANJE  PRENOSA  IZAZIVAČ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FEKTIVNIH  BOLE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PREČAVANJE  MOGUĆNOS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KOMPATIBILNOSTI  KRVNIH  GRUPA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LOIMUNIZ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PREČAVANJE  NASTAJAN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ŽELJENIH  REAKCIJA – ALERGIJSKIH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FEBRILNI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DNOSTI  AUTOLOGNE  TRANS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OPUNJAVANJE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NADOKNAD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NIM  PRODUKT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BEZBEĐENJE  KOMPATIBILNE  KRV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OLESNICIMA  KOJI  SU  VEĆ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ENZIBILISANI  I  IMAJU  PRISUTNA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LO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TIMULISANJE  HEMATOPOETSK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EHANIZAMA  KOD  DAV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NEDOSTACI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UTOLOGNE  TRANSF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UZ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DLAGANJE  OPERACIJE  ZB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REMENA  POTREBNOG  ZA  KOLEKCIJ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OVOLJNOG  BROJA  JEDINIC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IMANJE  JEDINICA  KRVI  I  ZA  O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PERACIJE  ZA  KOJE  SE  TRANSFUZ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AMO  PLANIRAJU,  ALI  NE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ENJU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TRATEGIJE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AUTOLOGN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TRANSFU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IJ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EOPERATIVNA  AUTOLOG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LEK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KUTNA  NORMOVOLEMIJSK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DIL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ERIOPERATIVNO  SPASAV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I/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OPERATIVNA  AUTOLOG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LEK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JČEŠĆE  KORIŠĆENA  TEHN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MENJUJE  SE  KOD  ELEKTIVNIH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NIRANIH,  HLADNIH  OPER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ČEKUJE  SE  PRIMENA  TRANSFUZ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LOGEN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OPERATIVNA  AUTOLOG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LEKCIJA  KRVI  -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LO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PŠTE  ZDRAVSTVENO  STANJE  DOB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b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110 g/l ,  H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0.34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PERACIJA  PLANIRANA  ZA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 – 5  NEDELJA  ŠTO  JE  BEZ  RIZIKA  Z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ACIJEN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EMA  SIMPTOMA  I  ZNAKOV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AKTERIJEM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OPERATIVNA  AUTOLOG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LEK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VAKA  JEDINICA  KRVI  SE  OBRAĐU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ERITROCITI  SE  SKLADIŠTE  NA  4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±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ČUVAJU  SE  DO  42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LAZMA  SE  ZAMRZAVA  I  ČUVA  NA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3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SLE  IZDVAJANJA  PLAZME,  ERITROCITI  SE  RESUSPENDUJU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RASTVORIMA  KOJI  POMAŽU  METABOLIZ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AGM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Natrijum  hlorid, Adenin, Glucosa, Manit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I  SE  ČUVAJU  DO  </a:t>
            </a:r>
            <a:r>
              <a:rPr b="1" lang="sr-Latn-CS" sz="4000" spc="-1" strike="noStrike">
                <a:solidFill>
                  <a:srgbClr val="66ff33"/>
                </a:solidFill>
                <a:latin typeface="Garamond"/>
              </a:rPr>
              <a:t>42</a:t>
            </a:r>
            <a:r>
              <a:rPr b="1" lang="sr-Latn-C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OPERATIVNA  AUTOLOG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LEKCI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EVENTIVNO  GVOŽĐE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ABLETAMA  300mg/24 h   42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LEKCIJOM  KRVI  NA  5 - 7 DA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OGU  SE  PRIKUPITI  4  JEDINIC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NAČAJNO  ZA  JEHOVINE  SVEDOK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JI  NE  PRIMANJU  TUĐU  KRV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KUTNA  NORMOVOLEMIJSK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HEMODIL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NIZAVANJE  NIVOA  Hb  PACIJEN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POSREDNO  PRE  OPERACIJE  U  SAL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IMANJE  KRVI  NEPOSREDNO  PR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PERACIJE  UZ  ISTOVREMEN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DOKNADU  VOLUME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ISTALOIDNIM  RASTVOROM  - RINGE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LAKTAT  1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3  ILI  KOLOIDIMA -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XTRAN 70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U  ODNOSU  1 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KUTNA  NORMOVOLEMIJSK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HEMODIL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IMAJU  SE  1 – 2  JEDINIC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STAJU  U  OPERACIONOJ  SALI  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UŽE  OD  8 h  NA  T   20 -2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AJE  SE  NAKON  HIRURŠK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STA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KO  OSTANE,  SKLADIŠTI  SE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FRIŽIDERU  I  PRIMENJUJE  U  ROKU  D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4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ERIOPERATIVNO  SPASAV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RVI/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TRAOPERATIVNO  SPASAVANJE  KRVI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LEKCIJA  KRVI  SA  MESTA  HIRURŠK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BR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STOPERATIVNO  SAKUPLJANJ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TRAOPERATIVNO  SPASAVANJ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PARAT  „CELL  SAVER 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RV  SE  ASPIRIRA  IZ  OPERACION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LJA,  FILTRIRA  I  CENTRIFUGI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DVAJAJU  SE  ERITROCITI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NDUJU  PACIJEN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VAKI  PACIJENT  IMA  SVOJ  SET  Z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JEDNOKRATNU  UPOTREB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UTOLOGNA  TRANSFU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OPERATIVNO  SAKUPLJANJ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AKUPLJANJE  KRVI  IZ  DRENOV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KON  OPERACIJE  DO  6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ASTOJI  SE  IZ  ASPIRACIONE  LINIJE,  FILTERA,  PLASTIČNOG  REZERVOARA  KAPACITETA  800 ml , KESE  ZA  PREBACIVANJE  KRVI  I  SISTEMA  ZA  TRANSFUNDOV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KUP  POSTUPAKA  VEZANIH  ZA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IMANJE  DAVAOČEVE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LI  BOLESNIKOVE  KRV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JENO  RAZDVAJANJE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SEPARACIJA)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  KOMPONENT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CENTRIFUGIRANJEM  I/ILI  FILTROVANJEM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KUPLJANJE  I  OTKLANJANJE  POJEDINIH  SASTOJAK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  REINFUZIJU  PREOSTALOG  DELA  KRV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AVAOC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ZA</a:t>
            </a:r>
            <a:br>
              <a:rPr sz="2800"/>
            </a:b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1. KRV  ULAZI  U  CENTRIFUGU,                          2.  SEPARIRA  SE  U  PLAZMU,  3.  LEUKOCITE,  4.  ERITROCITE,  5.  ODVOĐENJE  KOMPONENAT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40" name="Picture 6" descr="File:Apheresi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38280"/>
            <a:ext cx="6248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 – POSTUPAK - APARA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42" name="Picture 6" descr="Platelet_apheresis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VODI  SE  U  CILJU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PREMANJA  POJEDI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PONENATA  KRVI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NCENTROVANOM  OBLIKU  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ERAPIJSKOG  POSTUPKA  SMANJEN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ADRŽAJA  ONOG  DELA  BOLESNIKOV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I  U  KOME  JE  PRISUTAN  PATOGEN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UPSTR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  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SEPARACIJA – RAZDVAJANJE  KOMPONENTI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PTIMALNO  DO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6 h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OD  UZIMAN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NCENTROVANI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SASTOJCI  KRVI – ER.,  TR.,  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SA  OČUVANIM  SVIM  FAKTORIMA  KOAGUL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FEREZNO  PRIKUPLJANJE  KRV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MPONEN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1. PLAZMAFERE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. CITAFERE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OMBOCITAFERE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 LEUKAFERE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 AFEREZA  LIMFOIDNIH  ĆEL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USLOVI  ZA  IZVOĐENJE OD  DAVAOC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PŠTEVAŽEĆI  USLOVI  ZA  DAVAOC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EL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TARIJI  OD  18 god. ,  MLAĐI  OD  65 go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LINIČKI  ZDRAVI,  UREDAN  EK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b  NE  NIŽI  OD  13 g/dl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t  NE  NIŽI  OD  0.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AMBOCITI – NE  MANJE  OD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.000/ 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 LEUKOCITI  NE  MANJI  OD  4.000/ 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TROMBACITAFERE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KUPLJANJE  DOVOLJNOG  BRO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OMBOCITA  IZ  PERIFERNE  KRV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SLE  AFEREZE  BROJ  TROMBOCI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CA  MOŽE  BITI  SMANJEN  Z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30% - NIJE  OD  KLINIČKOG  ZNAČA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ORMALIZACIJA  ZA  48 – 72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AZMAK  IZMEĐU  DVA  72 h – 7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LEUKAFEREZA – GRANULOCITAFERE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DVAJANJE  LEUKOCITA –GRANUL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OBLEM – KRATK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SLETRANSFUZIJSKO  PREŽIVLJAV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UTROFILA – 24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VEOMA  SKUP  POSTUP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NDIKACIJE – SEPSA,  APLASTIČ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EM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FER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Z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LAZMAFERE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ZIMANJE  DAVAOČEVE  KRVI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ZDVAJANJE  I  ZADRŽAV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REĐENOG  VOLUMENA  PLAZME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500 - 1000 ml)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EZ  NADOKNAD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OLUMENA  TEČNOŠĆU  I  REINFUZI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NIH  ĆELIJA  DAVAOC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CILJ – PRIPREMANJE  DERIVAT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EPARATA  PLAZME – ALBUMIN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MUNOGLOBULI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sr-Latn-RS" sz="6000" spc="-1" strike="noStrike">
                <a:solidFill>
                  <a:srgbClr val="e5e5ff"/>
                </a:solidFill>
                <a:latin typeface="Garamond"/>
              </a:rPr>
              <a:t>HVALA NA PAŽNJ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    </a:t>
            </a: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OBAVEZNO 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TESTIRANJE  JEDINICA  KRVI  ODMAH  PO  U</a:t>
            </a: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ZIMANJU  PRE  PRIPREME  KOMPONEN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NA  GRUPA  ABO  SIST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NA  GRUPA  Rh  SISTEMA,  A  ZA  Rh D  NEGATIVNE  I  Rh  FENOTIPO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SUSTVO  NEPOŽELJNIH – NEREGULARNIH  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    </a:t>
            </a: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OBAVEZNO 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TESTIRANJE  JEDINICA  KRVI  ODMAH  PO  U</a:t>
            </a: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ZIMANJU  PRE  PRIPREME  KOMPONEN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ISUSTVO  ANTIGENA  HEPATITIS  B  VIRUSA -  HBsA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ISUSTVO  ANTITELA  NA  HEPATITIS  C  VIRUS – anti- HC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ISUSTVO  ANTITELA  NA  VIRUS  HUMANE  IMUNODEFICIJENCIJE – anti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ISUSTVO  ANTITELA  NA  TREPONEMA  PALLIDUM - SIFIL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5e5ff"/>
                </a:solidFill>
                <a:latin typeface="Garamond"/>
              </a:rPr>
              <a:t>TRANSFUZIOLOGIJ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TRANSFU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Z</a:t>
            </a: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IOLOGIJA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 </a:t>
            </a: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(TRANSFUZIONA  MEDICINA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–  GRANA  MEDICINE  KOJA  SE  BAVI  TRANSFUZIJOM  KRVI  I  KOMPONENAT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SASTOJ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LINIČKA  TRANSFUZIOLOG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,  KAO  DEO  OPŠTE  TRANSFUZIOLOGIJE,  BAVI  SE  URGENTNOM  I  ELEKTIVNOM  HEMOTERAPIJOM  HEMOBIOLOŠKIH  POREMEĆAJA  U  SARADNJI  SA  SPECIJALISTIMA  OSTALIH  GRANA  KLINIČKE  MEDICI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   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PRIPREMA PRODUKATA  OD  KRVI  I  ČUV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MPONENTE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DELOVI  KRVI  KOJI  SE  IZDVAJAJU  SAMO  FIZIČKIM  METOD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RIVATI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IZDVAJAJU  SE  I  HEMIJSKIM  METOD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MPONENTE  I  DERIVATI  ZAJED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ČINE  PRODUKTE  KRV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OSTUPAK 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SA  UZETOM  KRVLJU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   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PRIPREMA PRODUKATA  OD  KRVI  I  ČUV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BIČNO  SE  ČUVAJU  DERIVA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MA  SREDSTAVA  KOJA  OMOGUĆUJU   DUŽE  ČUV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TROMBOCITI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 PET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ERITROCIT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   35 – 42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 GODINU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OLOGIJA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(110)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KRVNE  GRUPE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- ABO  I  Rh  SISTE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468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 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KRVNE  GRUPE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- ABO  i  Rh  SISTEM</a:t>
            </a:r>
            <a:br>
              <a:rPr sz="3200"/>
            </a:br>
            <a:r>
              <a:rPr b="1" lang="sr-Latn-RS" sz="3200" spc="-1" strike="noStrike">
                <a:solidFill>
                  <a:srgbClr val="e5e5ff"/>
                </a:solidFill>
                <a:latin typeface="Garamond"/>
              </a:rPr>
              <a:t>        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KOMPATIBILNOST  GRUPA  I  PLAZME 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6" descr="Слика:Blood Compatibilit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040" y="1523880"/>
            <a:ext cx="3960720" cy="350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92160" y="5029200"/>
            <a:ext cx="48909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atibilnost 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ritroci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ed doniranj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toj krvnoj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i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atori 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rvne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e mogu dati krv i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, 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atelji krvi fenotipova 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i 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gu dati krv osobama  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https://upload.wikimedia.org/wikipedia/commons/thumb/1/1a/Plasma-donation.png/200px-Plasma-donation.png"/>
          <p:cNvPicPr/>
          <p:nvPr/>
        </p:nvPicPr>
        <p:blipFill>
          <a:blip r:embed="rId3"/>
          <a:stretch/>
        </p:blipFill>
        <p:spPr>
          <a:xfrm>
            <a:off x="5257800" y="1527120"/>
            <a:ext cx="3429000" cy="3502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4754520" y="5029200"/>
            <a:ext cx="4419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atibilnost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 plaz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ed doniranj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toj krvno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grupi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lazma tipa 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e se dati u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 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lazm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, B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gu se dati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KRVNE  GRUPE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- ABO  I  Rh  SISTE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939/40. go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DRUGI  ZNAČAJNI  SISTEM  ERITROCITINIH  ANTIGENA  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RHESUS  FAKTOR </a:t>
            </a:r>
            <a:r>
              <a:rPr b="1" lang="sr-Latn-C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Rh-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D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+</a:t>
            </a:r>
            <a:r>
              <a:rPr b="1" lang="sr-Latn-CS" sz="4000" spc="-1" strike="noStrike">
                <a:solidFill>
                  <a:srgbClr val="ffffff"/>
                </a:solidFill>
                <a:latin typeface="Garamond"/>
              </a:rPr>
              <a:t>  OSOBE  SADRŽE  Rh-D ANTIGEN  NA  ERITROCITI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Rh-D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-</a:t>
            </a:r>
            <a:r>
              <a:rPr b="1" lang="sr-Latn-CS" sz="4000" spc="-1" strike="noStrike">
                <a:solidFill>
                  <a:srgbClr val="ffffff"/>
                </a:solidFill>
                <a:latin typeface="Garamond"/>
              </a:rPr>
              <a:t>  OSOBE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  </a:t>
            </a:r>
            <a:r>
              <a:rPr b="1" lang="sr-Latn-CS" sz="4000" spc="-1" strike="noStrike">
                <a:solidFill>
                  <a:srgbClr val="ffffff"/>
                </a:solidFill>
                <a:latin typeface="Garamond"/>
              </a:rPr>
              <a:t>SADRŽE  Rh-D ANTIGEN  NA  ERITROCITI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        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KRVNE  GRUPE 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- ABO  I  Rh  SISTEM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179"/>
          <p:cNvPicPr/>
          <p:nvPr/>
        </p:nvPicPr>
        <p:blipFill>
          <a:blip r:embed="rId1"/>
          <a:stretch/>
        </p:blipFill>
        <p:spPr>
          <a:xfrm>
            <a:off x="-23760" y="16002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ABELA  KOMPATIBILNOSTI  KRV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600200"/>
          <a:ext cx="9144000" cy="5791320"/>
        </p:xfrm>
        <a:graphic>
          <a:graphicData uri="http://schemas.openxmlformats.org/drawingml/2006/table">
            <a:tbl>
              <a:tblPr/>
              <a:tblGrid>
                <a:gridCol w="2427120"/>
                <a:gridCol w="747720"/>
                <a:gridCol w="816120"/>
                <a:gridCol w="725400"/>
                <a:gridCol w="792360"/>
                <a:gridCol w="725400"/>
                <a:gridCol w="793800"/>
                <a:gridCol w="1023840"/>
                <a:gridCol w="1092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алац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99999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лац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1" lang="en-US" sz="3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248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HLA  SISTE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ANTIGENI  NA  LEUKOCITIM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                                  - KOMPLEKSNI  SISTEM  GENETSKIH  MARKERA           KOJI  ODREĐUJE  PODUDARNOST  KR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HUMAN  LEUKOCYITE  SYSTEM  A – H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MAJOR HISTOCOMPATIBILITY SYSTEM -M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HLA – SISTEM REGULACIJE IMUNOG ODGOV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PREPOZNAVANJE  SPOLJNIH  (klasa II HLA) 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UNUTRAŠNJIH  ANTIGENA (klasa I HLA) – TRUDNOĆA, TRANSFUZIJA i TRANSPLANTA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PRETRANSFUZIJSKI  TESTOVI  I  IZBOR  KRVI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SPITIVANJE  KRVI  I  DAVAOCA  I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REĐIVANJE  KRVNE  GRUP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BO  I  RhD  SISTEMA  SVAKE  JEDINICE  UZETE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I  PRISUSTVA   NEPOŽELJNIH  ANTITEL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REĐIVANJE  KRVNE  GRUP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BO  I  RhD  SISTEMA  PRIMAOC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I  PRISUSTVO  ALO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PRETRANSFUZIJSKI  TESTOVI  I  IZBOR  KRVI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UNAKRSNE  PROBE - TEST  KOMPATIBILNOSTI,  PODNOŠLJIVOSTI  ILI  INTER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SLEDNJA  PROVERA  KOJOM  SE  U  SLUŽBI  TRANSFUZIJE  POTVRĐUJE  DA  KRV  ILI  KOMPONENTA  ODABRANA  NA  OSNOVU  KRVNIH  GRUPA  ODGOVARA   PRIMAOC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PREČAVA  IMUNOLOŠKA  REAKCIJA  PRIMAOCA  NA  KRV  DAV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5e5ff"/>
                </a:solidFill>
                <a:latin typeface="Garamond"/>
              </a:rPr>
              <a:t>TRANSFUZIOLOGIJA 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HEMOTERAPIJA </a:t>
            </a: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LEČENJE  PACIJENATA   PRIMENOM  KRVI  I KRVNIH  KOMPONENATA  I  DERIV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PRETRANSFUZIJSKI  TESTOVI  I  IZBOR  KRVI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  DAVAOCA  I  PRIMAOCA  TREBA  DA  BUD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ISTE  ABO  I  RhD  KRVNE  GUP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KADA  JE  MOGUĆ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KOLIKO  JE  NEMOGUĆE – PRIMENJUJU SE  KOMPONENTE  DRUGIH  KRVNIH  GRUP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ACIJENTI  Rh-D –  PRIMAJU  SAM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Rh-D –  KR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ACIJENTI  Rh-D +  PRIMAJU  SAMO        Rh-D +  KRV,  ALI  MOGU  I  Rh-D –  KR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POSTUPA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DVE  OSNOVNE  GRUPE  TRANSFUZI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ZAVISNO  OD  IZV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HOMOLOGNA  ILI  ALOGEN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KORIS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KLADIŠTENU  KRV  DRUGIH  LJU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UTOLOGN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KORISTI  USKLADIŠTEN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   SAMOG  PACIJEN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POSTUPA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OSTUPAK  OD  MOMENTA  PREUZIMANJA  IZ  SLUŽBE  ZA  TRANSFUZIJU  DO  MOMENTA  PRIMEN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TREBA  DA  OBEZBED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ČUVANJE  KVALITE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AKSIMALN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SIGURNOST  PR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ME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TRIKTNO  POŠTOVANJE  PROCEDU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EUZIMANJA  I  ČUVANJA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DENTIFIKACIJE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POSTUPA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JEDINICU  KRVI  PREUZETI  IZ  SLUŽBE  TRANSFUZIJE  NEPOSREDNO  PRE  PRIM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POSTUPA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POSREDNO  PRE  PRIMEN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                    - MAKROSKOPSKI  PROVERI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SPRAVNOST  KES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OVERITI  ROK  VALJA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SUSTVO  POTREBNIH  OZNA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MANJENI  VOLUMEN  CIRKULIŠUĆE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USLED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UNUTRAŠNJEG  I  SPOLJAŠNJE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KRVAVLJENJA -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HEMORAG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POVRED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AKUTNI 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HEMORAGIČNI  Š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OPEKO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ANEMIJE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MALOKRVNOST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– SMANJE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KONCENTRACIJA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ERITROCITA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HEMOGLOB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DOSTATAK  FAKTORA  KOAGULACIJE –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HEMOFIL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PERATIVNI  ZAHVATI  I  KOMPLIK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LITIČKA  ANEMIJA  NOVOROĐENČE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FEKTIVNE  BOLESTI – SEP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OLESTI  IZAZVANE  RADIOAKTIVNIM  I  JONIZUJUĆIM  ZRAČEN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JA  KRVI -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KUTNI  GUBITAK  KRV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DOVODI  D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OSLABLJENE  TKIVNE  PERFU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I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SLABLJENOG  PROTOKA  KROZ  PERIFERIJU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AKUTNOG  HEMORAGIČNOG  Š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KTIVACIJE  KOMPENZATORNIH  MEHANIZAM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U  CILJU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NAVLJAN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IRKULACIJE  I  OBEZBEĐENJA  PERFUZIJE  VITALNIH  ORGANA – MOZAK, SRCE  I  BUBREZ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RAGIČNI  ŠOK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 u="sng">
                <a:solidFill>
                  <a:srgbClr val="ffff00"/>
                </a:solidFill>
                <a:uFillTx/>
                <a:latin typeface="Garamond"/>
              </a:rPr>
              <a:t>GUBITAK  KRVI 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-  </a:t>
            </a:r>
            <a:r>
              <a:rPr b="1" i="1" lang="sr-Latn-CS" sz="3600" spc="-1" strike="noStrike">
                <a:solidFill>
                  <a:srgbClr val="ffff00"/>
                </a:solidFill>
                <a:latin typeface="Garamond"/>
              </a:rPr>
              <a:t>750 ml   ili 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&lt;</a:t>
            </a:r>
            <a:r>
              <a:rPr b="1" i="1" lang="sr-Latn-CS" sz="3600" spc="-1" strike="noStrike">
                <a:solidFill>
                  <a:srgbClr val="ffff00"/>
                </a:solidFill>
                <a:latin typeface="Garamond"/>
              </a:rPr>
              <a:t> 15%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  VOLUM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KRVNI  PRITISAK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  NEPROMENJ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PULS</a:t>
            </a:r>
            <a:r>
              <a:rPr b="1" lang="sr-Latn-CS" sz="3200" spc="-1" strike="noStrike">
                <a:solidFill>
                  <a:srgbClr val="00ff99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 MALO  UBRZ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KAPILARNO  PUNJEN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 NORMAL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FREKVENCA  DISAN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NORMAL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DIUREZ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30 ml/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EKSTREMITETI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 NORMALNE  B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ff99"/>
                </a:solidFill>
                <a:latin typeface="Garamond"/>
              </a:rPr>
              <a:t>MENTALNI  STATUS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IZMENJEN,  UPLAŠEN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RAGIČNI  ŠOK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Garamond"/>
              </a:rPr>
              <a:t>GUBITAK  KRVI  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- 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750 - 1500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ml   ili 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15 - 30%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 VOLUM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KRVNI  PRITISAK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-  NORMALAN  ILI  POVIŠ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PULS</a:t>
            </a: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100/min  ILI  VIŠ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KAPILARNO  PUNJENJE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SPORO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2 se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FREKVENCA  DISANJ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TAHIPNO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DIUREZ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  20 - 30 ml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EKSTREMITETI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 BLE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MENTALNI  STATUS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ANKSIOZNOST  I  AGRESIVNOST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KRV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RV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LESNA  T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ČNOST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EČNO  „TKIVO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KOJE  KRUŽI  ORGANIZMOM  I  RAZNOSI  O2   I  HRANLJIV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ATERIJE  DO  ĆELIJA  ORGANIZMA,                                A  ODSTRANJUJE  CO2  I  SVE  OSTALE  METABOLIČKE  PRODUK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SASTAV 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KRVNA  PLAZMA  I  KRVNE  ĆELIJE – ERITROCITI ,  LEUKOCITI  I TROMB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RAGIČNI  ŠOK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Garamond"/>
              </a:rPr>
              <a:t>GUBITAK  KRVI  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- 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1500 - 2000 ml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  ili 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30 – 40 %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 VOLUM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KRVNI  PRITISAK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-  SNIŽ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PULS</a:t>
            </a: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120/min ,  SLABO  SE  PALPI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KAPILARNO  PUNJENJE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SPORO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2 se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FREKVENCA  DISANJ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TAHIPNOJA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20/m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DIUREZ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  10 - 20 ml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EKSTREMITETI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 BLE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MENTALNI  STATUS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NESVESTICA,    AGRESIVNOST,  KONFUZIJA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RAGIČNI  ŠOK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Garamond"/>
              </a:rPr>
              <a:t>GUBITAK  KRVI  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- 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&gt;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2000 ml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  ili 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&gt;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Garamond"/>
              </a:rPr>
              <a:t>40 %</a:t>
            </a:r>
            <a:r>
              <a:rPr b="1" i="1" lang="sr-Latn-CS" sz="2800" spc="-1" strike="noStrike">
                <a:solidFill>
                  <a:srgbClr val="ffff00"/>
                </a:solidFill>
                <a:latin typeface="Garamond"/>
              </a:rPr>
              <a:t>  VOLUM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KRVNI  PRITISAK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-  VEOMA  NIZ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PULS</a:t>
            </a: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120/min ,  SLABO  SE  PALPI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KAPILARNO  PUNJENJE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NE  REGISTRUJE  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FREKVENCA  DISANJ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TAHIPNOJA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20/m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DIUREZ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  0 - 10 ml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EKSTREMITETI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 BLEDI  I  HLAD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ff99"/>
                </a:solidFill>
                <a:latin typeface="Garamond"/>
              </a:rPr>
              <a:t>MENTALNI  STATUS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 KONFUZIJA,      GUBITAK  SVESTI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RAGIČNI  ŠOK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 u="sng">
                <a:solidFill>
                  <a:srgbClr val="ffff00"/>
                </a:solidFill>
                <a:uFillTx/>
                <a:latin typeface="Garamond"/>
              </a:rPr>
              <a:t>NADOKNADA  VOLUMENA -  PRIORITE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DOKNADA  I  ODRŽAVANJ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VOLUMENA  CIRKULIŠUĆE  KRV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PTIMIZACIJA  KAPACITETA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VEZIVANJA  I  PRENOSA  KISEON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BNAVLJANJ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LOIDNO – OSMOTSKOG  PRITISKA  PLAZ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POSTAVLJANJE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FUNKCIJE  HEMOSTA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RAGIČNI  ŠOK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Garamond"/>
              </a:rPr>
              <a:t>NADOKNADA  VOLUM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CILJ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ODRŽAVANJE  KRVNOG  PRITISKA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100 mmHg  I  PULSA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100 /m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GUBITAK  KRVI  DO  20%  ILI  1000ml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- TOLERIŠE  ODGANIZ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GUBITAK  KRVI    20 – 30 %  ILI  1 - 1.5 L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- KRISTALOIDNI  RASTVORI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RINGER  LACTAT  ILI  FIZIOLOŠKI  RASTVOR  BRZO  PREKO  DVE  VENE  OKO  2000 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- KOLOIDNI  RASTVORI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 DEXTRAN 70, HAEMACEL,  HETASTARČ    1000 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GUBITAK  KRVI PREKO  30%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sr-Latn-CS" sz="2800" spc="-1" strike="noStrike">
                <a:solidFill>
                  <a:srgbClr val="00ff99"/>
                </a:solidFill>
                <a:latin typeface="Garamond"/>
              </a:rPr>
              <a:t>KRV  I  DERIVATI  KR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KLINIČKA PODELA  KRVAR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76520"/>
          <a:ext cx="9144000" cy="5221080"/>
        </p:xfrm>
        <a:graphic>
          <a:graphicData uri="http://schemas.openxmlformats.org/drawingml/2006/table">
            <a:tbl>
              <a:tblPr/>
              <a:tblGrid>
                <a:gridCol w="1066680"/>
                <a:gridCol w="1371600"/>
                <a:gridCol w="1371600"/>
                <a:gridCol w="3962520"/>
                <a:gridCol w="1371600"/>
              </a:tblGrid>
              <a:tr h="144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AS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UBITA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VI (ml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UBITA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A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EPE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ŠOK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Z ZNAKOV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 POSTOJ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 -15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– 2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≈100/min, BLAGA HIPOTENZIJA, PERIFERNA VAZOKONSTRIKCIJ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00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–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≈120/min,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≈ 80-100 mmHg, OLIGURIJA, UZNEMIRENOS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ERE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V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 &gt; 120/min,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– jedva merljiv, POMUĆENJE SVESTI, ANURIJA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ŽAK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ANEMIJE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ATOLOŠKA  STANJA  SA  DEFICITOM  UKUPNOG  VOLUMENA  ILI  MASE  ERITROCI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PODELA 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STE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Č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ENE  ANEMIJE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PREMA UZROCIM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GUBITAK  KRVI – POVREDE, OPERAC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DEFICIT  GVOŽĐA – LOŠA  APSORP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HRONIČNA  BOLEST – BUBREŽ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INSUFICIJEN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IMUNI  POREMEĆAJ – AUTOIMU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HEMOLIZNA  ANEM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DEFICIT  KOŠTANE  SRŽI  - APLASTIČ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i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HEMOTERAPIJA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- PODRAZUMEVA LEČENJE  PACIJENAT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000"/>
                </a:solidFill>
                <a:latin typeface="Garamond"/>
              </a:rPr>
              <a:t>NADOKNADOM KRVI I/ILI HEMOPRODUKATA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(komponenti i derivati)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U CILJU OBNAVLJANJA I ODRŽAVANJA HOMEOSTAZE U KRVOTOKU KAO I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c000"/>
                </a:solidFill>
                <a:latin typeface="Garamond"/>
              </a:rPr>
              <a:t>PRIMENU AFEREZNIH PROCEDURA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U CILJU OTKLANJANJA I/ILI ZAMENE PATOLOŠKI IZMENJENIH KRVNIH SASTOJA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i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KRVNE  KOMPONENTE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DELOVI  KRVI  KOJI  SE  IZDVAJAJU  NEKOM  OD  FIZIČKIH  METODA –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PLAZMA, ER. , TR., 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KRVNI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i="1" lang="sr-Latn-CS" sz="2800" spc="-1" strike="noStrike" u="sng">
                <a:solidFill>
                  <a:srgbClr val="ffcc00"/>
                </a:solidFill>
                <a:uFillTx/>
                <a:latin typeface="Garamond"/>
              </a:rPr>
              <a:t>DERIVATI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PROTEINSKI  PREPARATI  PRIPREMLJENI  IZ  PLAZME  PRIMENOM  NEKOG  OD  HEMIJSKIH  ILI  FIZIKOHEMIJSKIH  POSTUPAKA – </a:t>
            </a: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ALBUMIN, IMUNOGLOBULI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Garamond"/>
              </a:rPr>
              <a:t>PRIMENA KOMPONENATA KRVI I DERIVATA  DOPRINELA  J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- RACIONALNOM KORIŠĆENJU KRV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- OMOGUĆILA SPECIFIČNO LEČENJE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ODREĐENIH  BOLE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- SMANJILA VELIKI  BROJ  RIZIKA  KOJI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POSTOJE  PRI  TRANSFUZIJI  PUNE  KRV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PRIMENA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CELE (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PUNE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KRVI  OPRAVDANA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SAMO  KOD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AKUTNOG  MASIVNOG GUBITKA  KRVI  KOJI  VODI  KA  HEMORAGIJSKOM  ŠO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EKSANGVINOTRANSFUZIJE  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NOVOROĐENČE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NEONATALNA  TRANSFUZIJA – MANJ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OD  4 – 5  DANA  STARA  KR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KARDIOHIRURŠKE  I  VASKULARN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OPERACIJ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PRIMENA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CELE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PUNE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KRV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NORMALIZUJE  INTRAVSKULARN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CIRKULIŠUĆI  VOLU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OBEZBEĐUJE  TRANSORT  KISEONIK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TKIVI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USPOSTAVLJA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KOAGULACIJU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HEMOSTAZ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EDNOST  SVEŽA  KRV – IZBEGNUTI  NEŽELJENE  POSLEDICE  KONZERVISANE  KRV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CIRKULACIJA  KRVI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CEL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UNE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NZERVISANA  CELA  KRV – MEŠAVI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ČEVE  KRVI  I  ANTIKOAGULANTA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NZERVIŠUĆEG  RASTVORA – CPDA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SKLADIŠTENA  NA  TEMPERATURI  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4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±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OK  TERAPIJSKE  UPOTREBE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GRANIČEN  NA  28 DANA  ZB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IJSKIH,  BIOHEMIJSKIH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ORFOLOŠKIH  PROM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CEL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UNE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KRVI -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  ODNOSU  NA  DEPLAZMATIZOVAN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  SADRŽ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3 x  VIŠE  NATRIJ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EKOLIKO  PUTA  VIŠE  KALIJ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3 x  VIŠE  JONA  VODON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20 x  VIŠE  AMONIJAKA  I  MLEČ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ISE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10 x  VIŠE  SLOBODNOG  HEMOGLOBI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CELE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UNE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KRVI -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  ODNOSU  NA  DEPLAZMATIZOVAN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RV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UNKCIJA  TROMBOCITA  S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GORŠAVA  VEĆ  POSLE  6 h  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ZIMANJA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VIABILNOST  LEUKOCITA  OPAD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GLO  POSLE  24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PADA  AKTIVNOST  V  I  VIII  FAKTOR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AGULACI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ERITROCITA - PREPARA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ESUSPENDOVANI 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SPRANI  ILI  OPRANI 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ERITROCITI  SIROMAŠNI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LEUKOCIT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E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MRZNUTO – ODMRZNUT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PREMA – UKLANJANJE  ODREĐEN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OLUMENA  PLAZM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OKO 2/3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IZ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JEDINICE  CELE  KRV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ENTRIFUGIRANJEM  IL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DIMENTISAN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UŽINA  ČUVANJA  21 – 35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JEDINICA  IMA  VOLUMEN OD  200 – 250 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UKLANJANJEM  PLAZM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UJE  SE  UKUPNI 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KLANJA  SE  VIŠAK  CITRATA, Na, 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MANJUJE  SE  TITAR  ANTI – A   I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 – B  ANTITEL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EDNOSTI  PRIMEN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ANJI  VOLUMEN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50 – 60%) POTREB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A  POVEĆANJE  NIVOA  HEMOGLOB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JEDNA  JEDINICA  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H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 70-80%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VEĆAVA  NIVO  HEMOGLOBINA  ZA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10 g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ANJA  KOLIČINA CPDA-1  RASTVORA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DUKATA  USLED  USKLADIŠTE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  ZA  PRIMENU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LEČENJE  DEFICITA  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DOKNADA  KAPACITE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GLOBINA  ZA  TRANSPOR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ISEONIKA  U  PACIJENA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A  SIMPTOMATSKOM  HIPOKSIJOM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  ZA  PRIMENU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EMIJE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 Hb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70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PERACIJA –  Hb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100 g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CIROZA  JETRE, UREMIJA  SA  ANEMIJ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ONGESTIVNA  SRČANA  SLAB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ASIVNE  OPEKOTINE  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IPERKALIJEMIJ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DEPLAZMATISANA  KRV –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  ZA  PRIMENU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KSANGVINOTRANSFUZI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OVOROĐENČE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RURŠKO  AKUTNO  KRVAVLJENJE –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APOČETI  SA  ERITROCITIMA  I  NEKIM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RASTVORIMA  ZA  NADOKNAD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OLUME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SASTAV   KRVI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8%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TELESNE  TEŽINE  ČOVE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5 litara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– VOLUMEN  KRVI  KO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ČOVE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3.5  litara  -  54.3 %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OD  CELE  KRVI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TEČNA  </a:t>
            </a:r>
            <a:r>
              <a:rPr b="0" lang="sr-Latn-CS" sz="3200" spc="-1" strike="noStrike">
                <a:solidFill>
                  <a:srgbClr val="ffc000"/>
                </a:solidFill>
                <a:latin typeface="Garamond"/>
              </a:rPr>
              <a:t>KRVNA  PLAZ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0.7 %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ČVRSTE  KRVNE  ĆELIJE </a:t>
            </a: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- 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45%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ČVRSTE  KRVNE  ĆELIJE - </a:t>
            </a:r>
            <a:r>
              <a:rPr b="0" lang="sr-Latn-CS" sz="3200" spc="-1" strike="noStrike">
                <a:solidFill>
                  <a:srgbClr val="66ff33"/>
                </a:solidFill>
                <a:latin typeface="Garamond"/>
              </a:rPr>
              <a:t>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7464600" y="3276720"/>
            <a:ext cx="1676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OLOGIJA </a:t>
            </a: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ISPRANI  ILI  OPRANI 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KLONJENA  PLAZMA  I  VEĆI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LEUKOCITA  I  TROMB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ANJE  ERITROCITA  STERILNIM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PIROGENIM  IZOTONIČNIM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RASTVOROM  NaC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NEMIJA  U  BOLESNIKA  OSETLJIV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  PLAZ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AJANJE  24 h  OD  PRIPREME,  200 ml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RESUSPENDOVANI  ERITR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PREMA  DODATKOM  FIZIOLOŠK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RASTVORA – 200 ml Er  i  100 ml  RASTV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IPREMA  DODATKOM  RASTVOR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ORBITOL, ADENIN, GLIKOZA  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ANITOL – SA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ODUŽAVAJU  TERAPIJSKU  UPOTREB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A   NA  35 – 42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ct  50%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PR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–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ZMA  IZDVOJENA  IZ  JEDINIC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NZERVISANE  SVEŽE  KRV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ZAMRZNUTA  U  ROKU  OD  NAJKASN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6 h  OD  UZIMANJA  NA  - 9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KLADIŠTENA  NA   - 3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ROK  UPOTREBE  GODINU 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AKTORI  KOAGULACIJE, FIBRINOLIZE  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PLEMENTA –  400 mg FIBRINOGE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  200 I.J. OSTALIH  FAKT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OTEINI  I  IMUNOGLOBULI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200 – 250 ml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NDIKACIJE  Z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A  PRIME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DOKNADA  ČINILACA  KOAGULAC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D  UROĐENOG  ILI  STEČENO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EFICITA  POJEDINAČNIH  ILI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STOVREMENO  VIŠE  ČINILAC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II, V, VII,  VIII, IX, X , XI, XII, XII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DOKNADA  ČINILACA  KOAGULAC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KON  MASIVNIH  TRANSFUZ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NDIKACIJE  Z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A  PRIME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REDOZIRANJE  ORAL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KOAGULANTNE  TERAP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EFICIT   VITAMINA  K  SA  KRVARENJ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LEČENJE  SVIH  KOAGULOPATIJA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ISEMINOVANA  INTRAVASKULAR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AGULOPATIJA - D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OPRAVDANA  PRIM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VOLEMIJA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RAGIJ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ADOKNADA  VOLUM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DOKNADA  HRANLJIVIH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           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NUTRITIVNI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MATER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ODMRZAVANJE  -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15 – 30 m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  VODENOM  KUPATILU  NA  37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POTREBA  NEPOSREDNO  P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MRZAVAN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DO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10 ml /k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ČESTO  15 ml / kg  POČETNA  DO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BRZINA  INFUNDOV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5 - 10 ml/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LI  KAKO  PACIJENT  TOLERIŠ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FUZI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ZAMRZNUTA  SVEŽA  PLAZMA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(ZS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NDOVANJE  -  AB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TIBILNOST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PLAZ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5" descr="Plasma-donation"/>
          <p:cNvPicPr/>
          <p:nvPr/>
        </p:nvPicPr>
        <p:blipFill>
          <a:blip r:embed="rId1"/>
          <a:stretch/>
        </p:blipFill>
        <p:spPr>
          <a:xfrm>
            <a:off x="1905120" y="3276720"/>
            <a:ext cx="533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KRIOPRECIP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EMOPRODUKT  KOJI  SADRŽ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ZMATSKE  PROTEI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OBIJA  SE  TALOŽENJEM  U  TOK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MRZAVANJA  ZSP  NA  T  OD  4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±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OKOM  18 – 24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USKLADIŠTENJE  1  GODINA  NA   - 4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LI  6  MESECI  NA  - 2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JEDINICA  KOLIČINE  20 – 50 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SASTAV  KRVI – 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KRVNA  PLAZMA</a:t>
            </a:r>
            <a:br>
              <a:rPr sz="28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PLAZMA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NECELULARN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NEĆELIJSK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DEO  TEČN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SERUM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TEČNOST  KOJA  OSTAJE  POSLE  UKLANJANJA  FAKTORA  KOAGULACIJE  KRV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GRUŠAVANJA  KRVI)  I  NE  SADRŽI  FIBRINOGEN,  ALI  SADRŽI  OSTALE  PROTEINE - ALBUMIN  I  IMUNOGLOBU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KRIOPRECIP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ADRŽAJ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  VIII   80 – 100  i.j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IBRINOGEN   200 – 250 m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VONWILLEBRANDOV  FAKTO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  X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FIBRONEKTIN – NEOPHODAN  ZA   LIZ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AKTERIJA  U  INFEKCIJ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ORGANIZ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KRIOPRECIP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RVAVLJENJA U VEZI SA HEMOFILIJOM A, vonWILLEBRANDOVOM  BOLEŠĆU, DEFICITOM  F  XIII  I  FIBRINOGEN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DI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EPSA, TEŠKA  TRAUMA,  OPEKOTINE 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ZBOG  VISOKOG  SADRŠA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FIBRONEKT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KRIOPRECIP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DOZ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1 – 2  JEDINICE / 10 kg – ZAUSTAVLJ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ALIH  SPONTANIH  KRVAVLJE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2 – 3  JEDINICE / 10 kg - ZAUSTAVLJAN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IRURŠKIH  KRVAVLJE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8 - 10  JEDINIC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2 g  FIBRINOG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KRIOPRECIPIT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TRANSFUNDOVANJE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-  ABO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KO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TIBILNOST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KRIOPRECIPITAT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ZBOG  PRISUSTVA  ANTI – A  ILI  B  ANTITE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ODMRZAVANJE  -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15 – 30 min,  UPOTREBA ODM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BRZINA  INFUNDOV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5 - 10 ml/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ILI  KAKO  PACIJENT  TOLERIŠ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INFUZIJ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TROMBOCI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NAČIN  DOBIJANJ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SVEŽA  KRV  STARA  DO  6 h,  UZETI  U  SPECIJALNIM  PLASTIČNIM  KESAMA I  RESUSPENDOVANI  U  30-50 ml  AUTOLOGNE  PLAZ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SADRŽAJ  JEDNE  DO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5.5 x 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¹°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TROMBOCI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MALO  LEUKOCI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MALO  PLAZM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NCENTROVANI  TROMB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ČUVANJE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NA  SOBNOJ  TRMPERATURI   22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±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C   5   DANA  UZ  STALNO  MEŠANJE  U  MEŠALICAMA – TRESILIC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VOLUMEN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30 - 50  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DO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DRASLI – 1  JEDINICA / 10 k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ECA -  5 ml / k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NCENTROVANI  TROMB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BRZINA  TRANSFUNDOV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5 - 10 ml/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LI  KAKO  PACIJENT  TOLERIŠ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FUZI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8 -  11  DANA  VEK  PREŽIVLJAVAN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OMBOCITA  U ORGANIZMU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NDOVAN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-  AB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TIBIL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NCENTROVANI  TROMB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  ZA  TRANSFUZIJU  T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OMBOCITOPENIJA  ZBOG  SMANJE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DUKCIJE – APLASTIČNA  ANEMIJA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LEUKEM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ROMBOCITOPENIJA  ZBOG POVEĆA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ESTRUKCIJE – IMUNE – NEONATAL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TRANSFUZIOLOGIJA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197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)</a:t>
            </a: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TROMBOCI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VEŽA  KONZERVISANA  KRV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VEO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ALI  BROJ  TROMB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OMBOCITAFEREZ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OD  JED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SOBE – SMANJUJE  MOGUĆNOS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SENZIBILIZ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LBUM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AJZASTUPLJENIJI  PROTEIN  U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RGANIZ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40%  U  PLAZMI,  60%  U  TKIV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INTETIŠE  SE  U  JET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LUŽIVOT   14 - 20 D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DVAJA  SE  IZ  LJUDSKE  PLAZM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ETODOM  FRAKCIONIS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KRV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4680" y="1980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RVNE  KOMPONENT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DELOVI  KRVI  KOJI  SE  IZDVAJAJU  NEKOM  OD  FIZIČKIH  METODA –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LAZMA, ER. , TR., 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KRVNI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 </a:t>
            </a:r>
            <a:r>
              <a:rPr b="1" i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DERIVAT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PROTEINSKI  PREPARATI  PRIPREMLJENI  IZ  PLAZME  PRIMENOM  NEKOG  OD  HEMIJSKIH  ILI  FIZIKOHEMIJSKIH  POSTUPAKA –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LBUMIN, IMUNOGLOBULI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LBUM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ULOGA  U  ORGANIZ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DRŽAVANJE  ONKOTSKOG  PRITISK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ZME – 75 - 80% OD UKUPNO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40 - 45 g/l  PLAZM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1 g  VEŽE  18 – 20 ml V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ALBUM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INDIKACIJE  ZA  PRIME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EMOLIZNA  BOLEST  NOVOROĐENČETA – VEZIVANJE  BILIRUB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MENE  PLAZME  I  DIJALIZA – ODRŽAVANJE  KRVNOG  PRITIS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PEKOTINE – POSLE  24 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ŠOK – U  SLUČAJU  VELIKOG  GUBIT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AO  HRANA  - 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IMUNOGLOBULI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DEO  PROTEINSKOG  SISTEMA   PLAZME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ANTITE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ULOG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ODBRANA  ORGANIZMA  OD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STRANIH  ANTIG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ODBRANA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PREPOZNAVANJ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ANTIGENA,  PREZENTACIJA  ANTIGEN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IMUNOM  SISTEMU  I  POKRETANJ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MEHANIZAMA  ZA  ELIMINACIJ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ANTIG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IMUNOGLOBULI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E  SINTETIŠU  SE  U  JET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STVARAJU  IH  B  LIMFOCITI – PLAZM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ĆELIJE  NA  STIMULACIJU  ANTIGEN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ZDVAJAJU  SE  IZ  LJUDSKE  PLAZM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ETODOM  FRAKCIONIS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EŠAVINA  PLAZMI  OD  VELIKOG  BRO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LACA  SADRŽI  POLISPECIFIČ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IMUNOGLOBULI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SPECIFIČNI  ILI  HIPERIMUNI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- IZDVAJAJ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SE  IZ  PLAZME  OSOBA  KOJE  S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ELEŽALE  NEKU  BOLEST – HEPATITIS A,B,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ANTI –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Rh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D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)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IMUNOGLOBULIN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ZAŠTITA  Rh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D) – NEGATIVNIH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ŽENA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RI  IZLOŽENOSTI  Rh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D)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– POZITIVNIM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ERITROCITIMA  FETUSA  I  SPEČAVA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ALOIMUNIZACIJA  ZA  DRUG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TRUDNOĆ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PRIMENA  KRVI  - HEMOTERAPIJ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RVNI  DERIVATI  ZA  ZAUSTAVLJANJE  KRVAVLJENJA – ZGRUŠAVANJE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- F  VIII  KONCENTRA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- F  IX  KONCENTR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- F  IX  KOMPLEKS  KONCENTR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RVNI  DERIVATI  ZA  INHIBICIJU  KOAGULACIJE - ZGRUŠAV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ANTITROMBIN  III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– INAKTIVIŠ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OMBIN  I   F IX, F X, F XI , F X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RELATIVNO  BEZBEDAN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TERAPIJSKI  POSTUPAK  U  ODNOSU  NA  DRU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  PORED  PREDUZETIH  MERA  ZA  PREVENCIJU –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IJE  BEZ  RIZ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AĆENA  JE  REAKCIJAMA  SA  LAKŠIM  ILI  TEŽIM  POSLEDICAMA  KOJE  SE  ZAJEDNIČKIM  IMENOM  NAZIVAJU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TRANSFUZIJSKE  REAKCIJ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ODELA  PREMA  PATOFIZIOLOŠKOM  MEHANIZMU  NASTANKA -  ETIOPATOGENEZ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IMU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EIMU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MA  VREMENU  NASTAN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NEPOSRE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KASN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ODLOŽE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POSREDNE TRANSFUZ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JAVA  U  TOKU  TRANSFUZIJE  KRV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/ILI  HEMOPRODUKTA  I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OKOM  PRVA  3 h  PO  ZAVRŠENOJ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POSREDNE TRANSFUZ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 AB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KOPATIBILNOS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NEPODUDARNO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LERGIJSK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ANTITEL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TIV  PROTEINA  PLAZ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NAFILAKTIČN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ANTI - Ig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KRV – 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ULOGA  U  ORGANIZ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592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OAGULA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ZGRUŠAVANJ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 I 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HEMOSTA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ZAUSTAVLJANJE)  KRVAVLJE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RENOSNE  FUNKCI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TRANSPORT  HORMON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O  CILJNIH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I  INFORMACIJA  O  OŠTEĆENJU  TKI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POSREDNE TRANSFUZ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FEBRILNA  NEHEMOLIZN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AOČEVA  ANTILEUKOCITAR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I  NEKARDIOGENI  EDEM  PLUĆA-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AVAOČEVA  ANTILEUKOCITAR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KONGESTIVNA  SRČANA INSUFICIJEN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PREOPTEREĆENOST  KV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POSREDNE TRANSFUZ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BAKTERIJSKA  KONTAMINA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BAKTERIJE  I  ENDOTOKSINI  U 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MIKROAGREGATNI  ILI  VAZDUŠNI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EMBOLU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SINDROM  MASIVNE  TRANSFUZIJ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TRANSFUZIJE  VELIKOG  VOLUME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DUGO  USKLADIŠTENE KR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ODLOŽENE  TRANSFUZIJSKE  REAK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ODLOŽENA  HEMOLIZNA  REAKCI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INKOPATIBILNOST  ERITROC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SIDEROZ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AKUMULACIJ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GVOŽĐ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TROMBOCITOPENIJSKA  PURP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TRANSFUZIJSKE  TRANSMISIO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BOLESTI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- VIRU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–  AB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INKOPATIBILNOST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(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EPODUDARNOST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)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ERITROCIT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OSLEDICA  IMUNE  RAZGRADNJE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HEMOLIZE  TRANSFUNDOVA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ERITROCITA  ANTITELIMA,  SPECIFIČNO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SMERENIM  PROTIV  TIH  ERITROCITA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  PRISUTNIM  U  PRIMAOČEVOJ  PLAZ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MOŽE  DA  IMA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KATASTROFALN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POSLEDICE  PO  PRIMAO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IMUNA  RAZGRADNJA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– HEMO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IMAOČEVIH   ERITROCIT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TITELIMA,  SPECIFIČNO  USMERENIM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ROTIV  TIH  ERITROCITA, A  PRISUTNIH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U  DAVAOČEVOJ  PLAZMI – OBIČNO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NIJ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66ff33"/>
                </a:solidFill>
                <a:latin typeface="Garamond"/>
              </a:rPr>
              <a:t>TAKO  KATASTROFAL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ŽIVOTNO  UGROŽAVAJUĆE  POSLEDICE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Š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SEMINOVANA  INTRAVASKULAR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KOAGULACIJA – MIKROTROMBO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AKUTNA  INSUFICIJENCIJA  BUBRE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OL  NA  MESTU  VENEPUNKCIJE  I  DUŽ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V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OVIŠENA  TEMPERATURA  TE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JEZA  I  DRHTAV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PSIHIČKA  UZNEMIRE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OL  U  SLABINSKOM  PREDE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TAHIKARD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BOLOVI  I  STEZANJE  U  GRUD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DISPNEJA – OTEŽŽANO  DIS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IPOTENZ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GAĐENJE  I  POVRAĆ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CRVENILO  L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TRANSFUZIJA  KRVI -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NEŽELJENI  EFEK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AKUTNA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Garamond"/>
              </a:rPr>
              <a:t>HEMOLIZNA  REAK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SIMPTOMI  I  ZNACI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HEMOGLOBINURIJA – TAMNO  CRVEN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MO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ĆA  ILI  KAO  VI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Š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GENERALIZOVANO  KRVAVLJE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OLIGURIJA  I  ANUR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 VLAŽEĆE  KRVAVLJENJE  PRI  OPERACIJ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47:11Z</dcterms:created>
  <dc:creator>Stevan Jovanovic</dc:creator>
  <dc:description/>
  <dc:language>en-US</dc:language>
  <cp:lastModifiedBy>Korisnik</cp:lastModifiedBy>
  <dcterms:modified xsi:type="dcterms:W3CDTF">2020-04-28T19:09:37Z</dcterms:modified>
  <cp:revision>179</cp:revision>
  <dc:subject/>
  <dc:title>TRANSFUZIOLOGIJA</dc:title>
</cp:coreProperties>
</file>